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0.jpeg" ContentType="image/jpeg"/>
  <Override PartName="/ppt/media/image8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4C4C-38A9-4838-AD99-DCE415075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1825-2756-4AE0-8862-3CE7DD6FB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F33B-EFA3-40F3-8D19-F58003CCA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1CB7-A8C3-49E2-96CD-164E62D68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9A52D-EA41-4F88-BE0A-47EE2B3B0A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D1C4A-67E6-4ABB-956A-1611611E9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83CF0-6BC1-4E41-8C35-C3E390F49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007C-7AAC-44B1-AFE5-DE2A6A610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9772-A4CC-42E8-95A7-1EC1F378D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2C4AD-4740-4631-9DFA-7AF5F6BD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03EA-CE68-4499-8467-1B4919CA4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968B-11FA-4090-ACC3-C827B75A7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E128B-960B-44A1-AAD4-530BCCC04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A034-E500-4020-A04E-8AED457E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58B87-FEDB-4827-AD26-A7819BFD2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32C5B-0595-477B-B983-22149275C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66312-4623-4327-B3CE-20E879D4B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897AF-7935-4BB8-B534-4F15CAF1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C18F-0692-47C4-B46D-F1FBA4BC3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2070-0703-42B9-AEA5-C40415B98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857D-A695-499F-B609-487417DAD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C05D-B120-42C8-980E-AB4BAB0ED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C45E-B1D9-46E5-9D11-BFA74F1D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1842-6BFA-4E24-8C69-94853C1C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6068B-CE99-4D57-9BEE-37CD75BAD02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4550-E862-4F8E-BE79-33371F6B2E4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редные привычки и и х предупрежд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99" name="Picture" descr=""/>
          <p:cNvPicPr/>
          <p:nvPr/>
        </p:nvPicPr>
        <p:blipFill>
          <a:blip r:embed="rId1"/>
          <a:stretch/>
        </p:blipFill>
        <p:spPr>
          <a:xfrm>
            <a:off x="5364000" y="1700280"/>
            <a:ext cx="3311640" cy="36576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2" descr=""/>
          <p:cNvPicPr/>
          <p:nvPr/>
        </p:nvPicPr>
        <p:blipFill>
          <a:blip r:embed="rId2"/>
          <a:stretch/>
        </p:blipFill>
        <p:spPr>
          <a:xfrm>
            <a:off x="250920" y="2133720"/>
            <a:ext cx="3456000" cy="38606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3" descr=""/>
          <p:cNvPicPr/>
          <p:nvPr/>
        </p:nvPicPr>
        <p:blipFill>
          <a:blip r:embed="rId3"/>
          <a:stretch/>
        </p:blipFill>
        <p:spPr>
          <a:xfrm>
            <a:off x="2916360" y="3324240"/>
            <a:ext cx="353376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амая малая капля алкоголя для беременной женщины может стать причиной патологий и уродств</a:t>
            </a:r>
            <a:br>
              <a:rPr sz="2400"/>
            </a:b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1" name="Picture 2" descr="http://urodaizdrowie.pl/wp-content/uploads/2010/06/Preganant-woman-with-wine-001x.jpg"/>
          <p:cNvPicPr/>
          <p:nvPr/>
        </p:nvPicPr>
        <p:blipFill>
          <a:blip r:embed="rId1"/>
          <a:stretch/>
        </p:blipFill>
        <p:spPr>
          <a:xfrm>
            <a:off x="468360" y="1989000"/>
            <a:ext cx="7278480" cy="41608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4" descr="http://im4-tub-ru.yandex.net/i?id=607310248-25-72&amp;n=21"/>
          <p:cNvPicPr/>
          <p:nvPr/>
        </p:nvPicPr>
        <p:blipFill>
          <a:blip r:embed="rId2"/>
          <a:stretch/>
        </p:blipFill>
        <p:spPr>
          <a:xfrm>
            <a:off x="7086600" y="3352680"/>
            <a:ext cx="1685880" cy="196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2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ркомания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аркомания – болезненное непреодолимое пристрастие к наркотическим средствам, вызывающим нарушение психики, галлюцинации, бред, разрушение всех органов и систем человеческого организма, преждевременная смерть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Picture 5" descr="images (5)"/>
          <p:cNvPicPr/>
          <p:nvPr/>
        </p:nvPicPr>
        <p:blipFill>
          <a:blip r:embed="rId1"/>
          <a:stretch/>
        </p:blipFill>
        <p:spPr>
          <a:xfrm>
            <a:off x="5148360" y="4869000"/>
            <a:ext cx="3311280" cy="196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Мотивы толкающие к наркотическому дурману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Любопытство и подражание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Желание повторить испытанные ощущения одурманивания приводят к рабской зависимости от наркотика. Постепенно все имевшиеся ранее у подростка интересы и увлечения пропадают. Появляются слабость, бессонница, потеря аппетита, исхуд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аркотик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" descr="3. &amp;Ncy;&amp;acy;&amp;rcy;&amp;kcy;&amp;ocy;&amp;tcy;&amp;icy;&amp;kcy;&amp;icy; &amp;yacy;&amp;vcy;&amp;lcy;&amp;yacy;&amp;yucy;&amp;tcy;&amp;scy;&amp;yacy; &amp;pcy;&amp;rcy;&amp;iecy;&amp;pcy;&amp;yacy;&amp;tcy;&amp;scy;&amp;tcy;&amp;vcy;&amp;icy;&amp;iecy;&amp;mcy; &amp;kcy; &amp;dcy;&amp;ucy;&amp;khcy;&amp;ocy;&amp;vcy;&amp;ncy;&amp;ocy;&amp;mcy;&amp;ucy; &amp;rcy;&amp;acy;&amp;zcy;&amp;vcy;&amp;icy;&amp;tcy;&amp;icy;&amp;yucy;."/>
          <p:cNvPicPr/>
          <p:nvPr/>
        </p:nvPicPr>
        <p:blipFill>
          <a:blip r:embed="rId1"/>
          <a:stretch/>
        </p:blipFill>
        <p:spPr>
          <a:xfrm>
            <a:off x="250920" y="184464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4. &amp;Ncy;&amp;acy;&amp;rcy;&amp;kcy;&amp;ocy;&amp;tcy;&amp;icy;&amp;kcy;&amp;icy; &amp;tcy;&amp;ocy;&amp;lcy;&amp;kcy;&amp;acy;&amp;yucy;&amp;tcy; &amp;lcy;&amp;yucy;&amp;dcy;&amp;iecy;&amp;jcy; &amp;ncy;&amp;acy; &amp;kcy;&amp;rcy;&amp;acy;&amp;zhcy;&amp;icy; &amp;icy; &amp;ncy;&amp;acy;&amp;scy;&amp;icy;&amp;lcy;&amp;icy;&amp;yacy;."/>
          <p:cNvPicPr/>
          <p:nvPr/>
        </p:nvPicPr>
        <p:blipFill>
          <a:blip r:embed="rId2"/>
          <a:stretch/>
        </p:blipFill>
        <p:spPr>
          <a:xfrm>
            <a:off x="2916360" y="191628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2. &amp;Ncy;&amp;acy;&amp;rcy;&amp;kcy;&amp;ocy;&amp;tcy;&amp;icy;&amp;kcy;&amp;icy; &amp;chcy;&amp;acy;&amp;scy;&amp;tcy;&amp;ocy; &amp;pcy;&amp;rcy;&amp;icy;&amp;vcy;&amp;ocy;&amp;dcy;&amp;yacy;&amp;tcy; &amp;kcy; &amp;ncy;&amp;iecy;&amp;scy;&amp;chcy;&amp;acy;&amp;scy;&amp;tcy;&amp;ncy;&amp;ycy;&amp;mcy; &amp;scy;&amp;lcy;&amp;ucy;&amp;chcy;&amp;acy;&amp;yacy;&amp;mcy;."/>
          <p:cNvPicPr/>
          <p:nvPr/>
        </p:nvPicPr>
        <p:blipFill>
          <a:blip r:embed="rId3"/>
          <a:stretch/>
        </p:blipFill>
        <p:spPr>
          <a:xfrm>
            <a:off x="6012000" y="155736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1. &amp;Ncy;&amp;acy;&amp;rcy;&amp;kcy;&amp;ocy;&amp;tcy;&amp;icy;&amp;kcy;&amp;icy; &amp;ncy;&amp;iecy; &amp;dcy;&amp;acy;&amp;yucy;&amp;tcy; &amp;chcy;&amp;iecy;&amp;lcy;&amp;ocy;&amp;vcy;&amp;iecy;&amp;kcy;&amp;ucy; &amp;mcy;&amp;ycy;&amp;scy;&amp;lcy;&amp;icy;&amp;tcy;&amp;softcy; &amp;scy;&amp;acy;&amp;mcy;&amp;ocy;&amp;scy;&amp;tcy;&amp;ocy;&amp;yacy;- &amp;tcy;&amp;iecy;&amp;lcy;&amp;softcy;&amp;ncy;&amp;ocy;."/>
          <p:cNvPicPr/>
          <p:nvPr/>
        </p:nvPicPr>
        <p:blipFill>
          <a:blip r:embed="rId4"/>
          <a:stretch/>
        </p:blipFill>
        <p:spPr>
          <a:xfrm>
            <a:off x="6012000" y="3933720"/>
            <a:ext cx="2857320" cy="21430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6. &amp;Ncy;&amp;acy;&amp;rcy;&amp;kcy;&amp;ocy;&amp;tcy;&amp;icy;&amp;kcy;&amp;icy; &amp;yacy;&amp;vcy;&amp;lcy;&amp;yacy;&amp;yucy;&amp;tcy;&amp;scy;&amp;yacy; &amp;icy;&amp;scy;&amp;tcy;&amp;ocy;&amp;chcy;&amp;ncy;&amp;icy;&amp;kcy;&amp;ocy;&amp;mcy; &amp;mcy;&amp;ncy;&amp;ocy;&amp;gcy;&amp;icy;&amp;khcy; &amp;zcy;&amp;acy;&amp;bcy;&amp;ocy;&amp;lcy;&amp;iecy;&amp;vcy;&amp;acy;&amp;ncy;&amp;icy;&amp;jcy;."/>
          <p:cNvPicPr/>
          <p:nvPr/>
        </p:nvPicPr>
        <p:blipFill>
          <a:blip r:embed="rId5"/>
          <a:stretch/>
        </p:blipFill>
        <p:spPr>
          <a:xfrm>
            <a:off x="0" y="4005360"/>
            <a:ext cx="2857680" cy="22320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9. &amp;Ncy;&amp;acy;&amp;rcy;&amp;kcy;&amp;ocy;&amp;tcy;&amp;icy;&amp;kcy;&amp;icy; &amp;pcy;&amp;rcy;&amp;icy;&amp;vcy;&amp;ocy;&amp;dcy;&amp;yacy;&amp;tcy; &amp;kcy; &amp;ucy;&amp;rcy;&amp;ocy;&amp;dcy;&amp;scy;&amp;tcy;&amp;vcy;&amp;acy;&amp;mcy; &amp;ucy; &amp;dcy;&amp;iecy;&amp;tcy;&amp;iecy;&amp;jcy;."/>
          <p:cNvPicPr/>
          <p:nvPr/>
        </p:nvPicPr>
        <p:blipFill>
          <a:blip r:embed="rId6"/>
          <a:stretch/>
        </p:blipFill>
        <p:spPr>
          <a:xfrm>
            <a:off x="2987640" y="4005360"/>
            <a:ext cx="285768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абакокур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74fca"/>
                </a:solidFill>
                <a:latin typeface="Tahoma"/>
              </a:rPr>
              <a:t>Курение — вдыхание дыма препаратов, преимущественно растительного происхождения, тлеющих в потоке вдыхаемого воздуха, с целью насыщения организма содержащимися в них активными веществами путём их возгонки и последующего всасывания в лёгких и дыхательных путях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105520" y="0"/>
            <a:ext cx="4038480" cy="218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Табакокурение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04920" y="1006560"/>
            <a:ext cx="82296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Из чего состоит сигарет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78080" y="2384280"/>
            <a:ext cx="5581800" cy="33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редная привычка-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это систематическая деятельность человека, приносящая вред его собственному здоровью и здоровью окружающих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лкоголизм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5" name="Picture 5" descr="0022"/>
          <p:cNvPicPr/>
          <p:nvPr/>
        </p:nvPicPr>
        <p:blipFill>
          <a:blip r:embed="rId1"/>
          <a:stretch/>
        </p:blipFill>
        <p:spPr>
          <a:xfrm>
            <a:off x="6286680" y="3048120"/>
            <a:ext cx="2857320" cy="380988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826920" y="2421000"/>
            <a:ext cx="457200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лкоголизм - наркотическая зависимость, характеризующаяся болезненным пристрастием к употреблению алкогольных напитков( психическая и физическая зависимость) и алкогольным поражением внутренних орган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Алкоголь - это наркотическое вещество, которое вначале вызывает возбуждение, а затем угнетение нервной системы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547640" y="260280"/>
            <a:ext cx="5473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Действие алкоголя на организ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лкоголь разрушает мозг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0" name="Picture 12" descr="6bc32fd3ca788f8c2df82107"/>
          <p:cNvPicPr/>
          <p:nvPr/>
        </p:nvPicPr>
        <p:blipFill>
          <a:blip r:embed="rId1"/>
          <a:stretch/>
        </p:blipFill>
        <p:spPr>
          <a:xfrm>
            <a:off x="1763640" y="1773360"/>
            <a:ext cx="554508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18" descr="img8"/>
          <p:cNvPicPr/>
          <p:nvPr/>
        </p:nvPicPr>
        <p:blipFill>
          <a:blip r:embed="rId1"/>
          <a:stretch/>
        </p:blipFill>
        <p:spPr>
          <a:xfrm>
            <a:off x="1187280" y="189000"/>
            <a:ext cx="698508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лкоголь разрушает психик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5" name="Picture 2" descr="http://cs10147.vkontakte.ru/u35517411/118096624/x_4ee5ad3a.jpg"/>
          <p:cNvPicPr/>
          <p:nvPr/>
        </p:nvPicPr>
        <p:blipFill>
          <a:blip r:embed="rId1"/>
          <a:stretch/>
        </p:blipFill>
        <p:spPr>
          <a:xfrm>
            <a:off x="2192400" y="2017800"/>
            <a:ext cx="57531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лкоголь разрушает печень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7" name="Picture 20" descr="Livers"/>
          <p:cNvPicPr/>
          <p:nvPr/>
        </p:nvPicPr>
        <p:blipFill>
          <a:blip r:embed="rId1"/>
          <a:stretch/>
        </p:blipFill>
        <p:spPr>
          <a:xfrm>
            <a:off x="1116000" y="2565360"/>
            <a:ext cx="6624720" cy="35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лкоголь приводит к</a:t>
            </a:r>
            <a:br>
              <a:rPr sz="4400"/>
            </a:b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ку желудка, пищевода и кишечни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нсультам, инфаркта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слаблению или потери зрени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3T07:47:54Z</dcterms:created>
  <dc:creator>user</dc:creator>
  <dc:description/>
  <dc:language>en-US</dc:language>
  <cp:lastModifiedBy>user</cp:lastModifiedBy>
  <dcterms:modified xsi:type="dcterms:W3CDTF">2013-04-23T08:43:01Z</dcterms:modified>
  <cp:revision>13</cp:revision>
  <dc:subject/>
  <dc:title>Слайд 1</dc:title>
</cp:coreProperties>
</file>